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380B5C-E4B7-4D6D-8634-CC827B995182}"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B820A-22C7-4967-A0D5-8E142F00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6488-7748-4993-A6AC-CAD2D8274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366E1-323E-4341-8593-25A36EB6E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90E94-6E1E-4A43-8647-5C27349CA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4BB33-3D48-4FCE-951D-AC3378A70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D68FE-90C2-4559-8555-37214B816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29D5A-E419-48B6-AD00-4F1667B69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95094-B711-4E45-9457-7DB12EED8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8E375-73A1-4E21-8071-D6BA0D145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CB577-B127-409C-895E-60D0E297E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BCEAF-A86A-4E17-851A-8E80AA34A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2FEE-718C-4E71-9DB9-A9D488761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51F3-E639-4E16-B333-2D3C47113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C57EE-7EA3-4E89-8C25-57C610F37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C673B-B36A-4586-91C1-D15587A63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495CB-CE4C-454D-BA0E-BCE488AF9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D6716-16E2-4CE0-AE4F-507F2F490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9EBD0-F8B5-4344-9E67-5221B10A1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4C049-3F41-4AAA-ACBD-5D59E7F9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22A8-7F72-43A9-96BA-BE608D540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7F26-B80F-4F19-A9FD-CBB60F733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E5E4-8659-412F-8938-1B283002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EB63-20D8-4CBD-A644-C433DA75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80DD2-AA29-4D76-A9EF-026E2ACBF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678C-3EA4-4195-83BB-18FD727F3195}"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7CF9-F9F2-440E-8E20-1591BC34BBE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C010-8DFC-410E-AD93-66722C9A050B}" type="datetime">
              <a:rPr b="0" lang="en-US" sz="1000" spc="-1" strike="noStrike">
                <a:solidFill>
                  <a:srgbClr val="ffffff"/>
                </a:solidFill>
                <a:latin typeface="Verdana"/>
              </a:rPr>
              <a:t>07/29/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3098-63B0-45AB-83BF-FCC72709527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73CF21C-BAFA-48BD-9B02-573AD9D11FCB}" type="slidenum">
              <a:t>10</a:t>
            </a:fld>
          </a:p>
        </p:txBody>
      </p:sp>
      <p:sp>
        <p:nvSpPr>
          <p:cNvPr id="5" name="PlaceHolder 4"/>
          <p:cNvSpPr>
            <a:spLocks noGrp="1"/>
          </p:cNvSpPr>
          <p:nvPr>
            <p:ph type="dt" idx="1"/>
          </p:nvPr>
        </p:nvSpPr>
        <p:spPr/>
        <p:txBody>
          <a:bodyPr/>
          <a:p>
            <a:fld id="{38A17A7B-CEB8-4657-8809-21F5927C9D70}" type="datetime1">
              <a:rPr lang="en-US"/>
              <a:t>07/29/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0C75B9F-DCC0-41C3-8610-7F16CA7A0CA0}" type="slidenum">
              <a:t>11</a:t>
            </a:fld>
          </a:p>
        </p:txBody>
      </p:sp>
      <p:sp>
        <p:nvSpPr>
          <p:cNvPr id="6" name="PlaceHolder 5"/>
          <p:cNvSpPr>
            <a:spLocks noGrp="1"/>
          </p:cNvSpPr>
          <p:nvPr>
            <p:ph type="dt" idx="1"/>
          </p:nvPr>
        </p:nvSpPr>
        <p:spPr/>
        <p:txBody>
          <a:bodyPr/>
          <a:p>
            <a:fld id="{9E2D145E-3931-4E4D-B43A-E9EE1BFEBF57}" type="datetime1">
              <a:rPr lang="en-US"/>
              <a:t>07/29/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C8E9275-02A7-4DB7-A538-CE7AC306A950}" type="slidenum">
              <a:t>12</a:t>
            </a:fld>
          </a:p>
        </p:txBody>
      </p:sp>
      <p:sp>
        <p:nvSpPr>
          <p:cNvPr id="5" name="PlaceHolder 4"/>
          <p:cNvSpPr>
            <a:spLocks noGrp="1"/>
          </p:cNvSpPr>
          <p:nvPr>
            <p:ph type="dt" idx="1"/>
          </p:nvPr>
        </p:nvSpPr>
        <p:spPr/>
        <p:txBody>
          <a:bodyPr/>
          <a:p>
            <a:fld id="{B735517C-3798-4742-BA49-00F1C59C2562}" type="datetime1">
              <a:rPr lang="en-US"/>
              <a:t>07/29/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429DDB4-1BF0-44EE-A9BE-59E39436F835}" type="slidenum">
              <a:t>13</a:t>
            </a:fld>
          </a:p>
        </p:txBody>
      </p:sp>
      <p:sp>
        <p:nvSpPr>
          <p:cNvPr id="6" name="PlaceHolder 5"/>
          <p:cNvSpPr>
            <a:spLocks noGrp="1"/>
          </p:cNvSpPr>
          <p:nvPr>
            <p:ph type="dt" idx="1"/>
          </p:nvPr>
        </p:nvSpPr>
        <p:spPr/>
        <p:txBody>
          <a:bodyPr/>
          <a:p>
            <a:fld id="{FD25BEB2-C814-469E-A455-C0348F73A52F}" type="datetime1">
              <a:rPr lang="en-US"/>
              <a:t>07/29/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4E779E1-3F35-4C68-8E7D-806F77FA4EE6}" type="slidenum">
              <a:t>14</a:t>
            </a:fld>
          </a:p>
        </p:txBody>
      </p:sp>
      <p:sp>
        <p:nvSpPr>
          <p:cNvPr id="5" name="PlaceHolder 4"/>
          <p:cNvSpPr>
            <a:spLocks noGrp="1"/>
          </p:cNvSpPr>
          <p:nvPr>
            <p:ph type="dt" idx="1"/>
          </p:nvPr>
        </p:nvSpPr>
        <p:spPr/>
        <p:txBody>
          <a:bodyPr/>
          <a:p>
            <a:fld id="{CF4F3399-4437-4620-864F-B87F7476C72D}" type="datetime1">
              <a:rPr lang="en-US"/>
              <a:t>07/29/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CDAF7337-1E85-42C1-896F-54047C27C195}" type="slidenum">
              <a:t>15</a:t>
            </a:fld>
          </a:p>
        </p:txBody>
      </p:sp>
      <p:sp>
        <p:nvSpPr>
          <p:cNvPr id="4" name="PlaceHolder 3"/>
          <p:cNvSpPr>
            <a:spLocks noGrp="1"/>
          </p:cNvSpPr>
          <p:nvPr>
            <p:ph type="dt" idx="1"/>
          </p:nvPr>
        </p:nvSpPr>
        <p:spPr/>
        <p:txBody>
          <a:bodyPr/>
          <a:p>
            <a:fld id="{E415070E-62C0-46E3-B5C8-5E7420183475}" type="datetime1">
              <a:rPr lang="en-US"/>
              <a:t>07/29/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7DB41CA-4CE9-4A19-A557-333AC2B2CF8C}" type="slidenum">
              <a:t>16</a:t>
            </a:fld>
          </a:p>
        </p:txBody>
      </p:sp>
      <p:sp>
        <p:nvSpPr>
          <p:cNvPr id="5" name="PlaceHolder 4"/>
          <p:cNvSpPr>
            <a:spLocks noGrp="1"/>
          </p:cNvSpPr>
          <p:nvPr>
            <p:ph type="dt" idx="1"/>
          </p:nvPr>
        </p:nvSpPr>
        <p:spPr/>
        <p:txBody>
          <a:bodyPr/>
          <a:p>
            <a:fld id="{8D447529-7730-409C-A6AA-FBB10B50853D}" type="datetime1">
              <a:rPr lang="en-US"/>
              <a:t>07/29/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43EF1D9-79CF-4E7E-B624-6F5453E57B05}" type="slidenum">
              <a:t>17</a:t>
            </a:fld>
          </a:p>
        </p:txBody>
      </p:sp>
      <p:sp>
        <p:nvSpPr>
          <p:cNvPr id="5" name="PlaceHolder 4"/>
          <p:cNvSpPr>
            <a:spLocks noGrp="1"/>
          </p:cNvSpPr>
          <p:nvPr>
            <p:ph type="dt" idx="1"/>
          </p:nvPr>
        </p:nvSpPr>
        <p:spPr/>
        <p:txBody>
          <a:bodyPr/>
          <a:p>
            <a:fld id="{02F56C6D-B9D8-4355-9F60-546372F28EE0}" type="datetime1">
              <a:rPr lang="en-US"/>
              <a:t>07/29/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918D847-D84B-4810-A33D-F2DCA1A26C26}" type="slidenum">
              <a:t>18</a:t>
            </a:fld>
          </a:p>
        </p:txBody>
      </p:sp>
      <p:sp>
        <p:nvSpPr>
          <p:cNvPr id="5" name="PlaceHolder 4"/>
          <p:cNvSpPr>
            <a:spLocks noGrp="1"/>
          </p:cNvSpPr>
          <p:nvPr>
            <p:ph type="dt" idx="1"/>
          </p:nvPr>
        </p:nvSpPr>
        <p:spPr/>
        <p:txBody>
          <a:bodyPr/>
          <a:p>
            <a:fld id="{716AE769-87B8-4DC9-9D7F-FB782D28CA2F}" type="datetime1">
              <a:rPr lang="en-US"/>
              <a:t>07/29/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E73EABE-5157-40F4-B721-32FF298A8047}" type="slidenum">
              <a:t>19</a:t>
            </a:fld>
          </a:p>
        </p:txBody>
      </p:sp>
      <p:sp>
        <p:nvSpPr>
          <p:cNvPr id="5" name="PlaceHolder 4"/>
          <p:cNvSpPr>
            <a:spLocks noGrp="1"/>
          </p:cNvSpPr>
          <p:nvPr>
            <p:ph type="dt" idx="1"/>
          </p:nvPr>
        </p:nvSpPr>
        <p:spPr/>
        <p:txBody>
          <a:bodyPr/>
          <a:p>
            <a:fld id="{E6A5920E-0250-4AA1-8234-640A9E22C78D}" type="datetime1">
              <a:rPr lang="en-US"/>
              <a:t>07/29/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CAEF55B-FBE7-4856-89B2-B9F39AA1C7E6}" type="slidenum">
              <a:t>2</a:t>
            </a:fld>
          </a:p>
        </p:txBody>
      </p:sp>
      <p:sp>
        <p:nvSpPr>
          <p:cNvPr id="6" name="PlaceHolder 5"/>
          <p:cNvSpPr>
            <a:spLocks noGrp="1"/>
          </p:cNvSpPr>
          <p:nvPr>
            <p:ph type="dt" idx="1"/>
          </p:nvPr>
        </p:nvSpPr>
        <p:spPr/>
        <p:txBody>
          <a:bodyPr/>
          <a:p>
            <a:fld id="{32EEECBF-E11D-4714-B9EE-616069739345}" type="datetime1">
              <a:rPr lang="en-US"/>
              <a:t>07/29/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018C67A-847B-4BB0-A034-DB0AA9FCA744}" type="slidenum">
              <a:t>20</a:t>
            </a:fld>
          </a:p>
        </p:txBody>
      </p:sp>
      <p:sp>
        <p:nvSpPr>
          <p:cNvPr id="6" name="PlaceHolder 5"/>
          <p:cNvSpPr>
            <a:spLocks noGrp="1"/>
          </p:cNvSpPr>
          <p:nvPr>
            <p:ph type="dt" idx="1"/>
          </p:nvPr>
        </p:nvSpPr>
        <p:spPr/>
        <p:txBody>
          <a:bodyPr/>
          <a:p>
            <a:fld id="{4AFD3576-A02D-4BAB-83F0-4536A7685FB9}" type="datetime1">
              <a:rPr lang="en-US"/>
              <a:t>07/29/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0AA7EEF-56BD-4AE7-AD41-30ED91EF2DBB}" type="slidenum">
              <a:t>21</a:t>
            </a:fld>
          </a:p>
        </p:txBody>
      </p:sp>
      <p:sp>
        <p:nvSpPr>
          <p:cNvPr id="5" name="PlaceHolder 4"/>
          <p:cNvSpPr>
            <a:spLocks noGrp="1"/>
          </p:cNvSpPr>
          <p:nvPr>
            <p:ph type="dt" idx="1"/>
          </p:nvPr>
        </p:nvSpPr>
        <p:spPr/>
        <p:txBody>
          <a:bodyPr/>
          <a:p>
            <a:fld id="{9318FED0-3F2B-44A0-BFC6-7DB5391ECDD3}" type="datetime1">
              <a:rPr lang="en-US"/>
              <a:t>07/29/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B55E3DB-FC3C-42E3-9797-EB4901DAC3BD}" type="slidenum">
              <a:t>22</a:t>
            </a:fld>
          </a:p>
        </p:txBody>
      </p:sp>
      <p:sp>
        <p:nvSpPr>
          <p:cNvPr id="5" name="PlaceHolder 4"/>
          <p:cNvSpPr>
            <a:spLocks noGrp="1"/>
          </p:cNvSpPr>
          <p:nvPr>
            <p:ph type="dt" idx="1"/>
          </p:nvPr>
        </p:nvSpPr>
        <p:spPr/>
        <p:txBody>
          <a:bodyPr/>
          <a:p>
            <a:fld id="{6D388FE1-8288-4FBD-96A4-38956926EA28}" type="datetime1">
              <a:rPr lang="en-US"/>
              <a:t>07/29/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52B37A61-1A29-40CC-8982-2E898C971A63}" type="slidenum">
              <a:t>23</a:t>
            </a:fld>
          </a:p>
        </p:txBody>
      </p:sp>
      <p:sp>
        <p:nvSpPr>
          <p:cNvPr id="4" name="PlaceHolder 3"/>
          <p:cNvSpPr>
            <a:spLocks noGrp="1"/>
          </p:cNvSpPr>
          <p:nvPr>
            <p:ph type="dt" idx="1"/>
          </p:nvPr>
        </p:nvSpPr>
        <p:spPr/>
        <p:txBody>
          <a:bodyPr/>
          <a:p>
            <a:fld id="{A6CD6F63-5D2F-416E-8E09-B75F7DE5EFEE}" type="datetime1">
              <a:rPr lang="en-US"/>
              <a:t>07/29/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5E1324D-AF42-4CAA-816C-412B56C81F4B}" type="slidenum">
              <a:t>24</a:t>
            </a:fld>
          </a:p>
        </p:txBody>
      </p:sp>
      <p:sp>
        <p:nvSpPr>
          <p:cNvPr id="6" name="PlaceHolder 5"/>
          <p:cNvSpPr>
            <a:spLocks noGrp="1"/>
          </p:cNvSpPr>
          <p:nvPr>
            <p:ph type="dt" idx="1"/>
          </p:nvPr>
        </p:nvSpPr>
        <p:spPr/>
        <p:txBody>
          <a:bodyPr/>
          <a:p>
            <a:fld id="{69E6413A-D15F-4417-BCAA-2DA7B1F5E6BC}"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3E43802-4E38-42EF-AE2C-F0111445F925}" type="slidenum">
              <a:t>25</a:t>
            </a:fld>
          </a:p>
        </p:txBody>
      </p:sp>
      <p:sp>
        <p:nvSpPr>
          <p:cNvPr id="6" name="PlaceHolder 5"/>
          <p:cNvSpPr>
            <a:spLocks noGrp="1"/>
          </p:cNvSpPr>
          <p:nvPr>
            <p:ph type="dt" idx="1"/>
          </p:nvPr>
        </p:nvSpPr>
        <p:spPr/>
        <p:txBody>
          <a:bodyPr/>
          <a:p>
            <a:fld id="{6BB3EF0E-B249-41E5-90F4-3FAA160AC9DB}"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A41F491-FFF4-4279-9A9D-DA3696D4A9F1}" type="slidenum">
              <a:t>26</a:t>
            </a:fld>
          </a:p>
        </p:txBody>
      </p:sp>
      <p:sp>
        <p:nvSpPr>
          <p:cNvPr id="6" name="PlaceHolder 5"/>
          <p:cNvSpPr>
            <a:spLocks noGrp="1"/>
          </p:cNvSpPr>
          <p:nvPr>
            <p:ph type="dt" idx="1"/>
          </p:nvPr>
        </p:nvSpPr>
        <p:spPr/>
        <p:txBody>
          <a:bodyPr/>
          <a:p>
            <a:fld id="{29A68DBD-A964-4F0D-806E-22945BBADB36}" type="datetime1">
              <a:rPr lang="en-US"/>
              <a:t>07/29/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7109945-B4FA-4F50-9D3A-FD34303025EB}" type="slidenum">
              <a:t>3</a:t>
            </a:fld>
          </a:p>
        </p:txBody>
      </p:sp>
      <p:sp>
        <p:nvSpPr>
          <p:cNvPr id="6" name="PlaceHolder 5"/>
          <p:cNvSpPr>
            <a:spLocks noGrp="1"/>
          </p:cNvSpPr>
          <p:nvPr>
            <p:ph type="dt" idx="1"/>
          </p:nvPr>
        </p:nvSpPr>
        <p:spPr/>
        <p:txBody>
          <a:bodyPr/>
          <a:p>
            <a:fld id="{16708076-91AC-4C66-B60A-FBC550F96530}" type="datetime1">
              <a:rPr lang="en-US"/>
              <a:t>07/29/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ADCE1D2-F5CD-4969-803A-660E5C003C6E}" type="slidenum">
              <a:t>4</a:t>
            </a:fld>
          </a:p>
        </p:txBody>
      </p:sp>
      <p:sp>
        <p:nvSpPr>
          <p:cNvPr id="6" name="PlaceHolder 5"/>
          <p:cNvSpPr>
            <a:spLocks noGrp="1"/>
          </p:cNvSpPr>
          <p:nvPr>
            <p:ph type="dt" idx="1"/>
          </p:nvPr>
        </p:nvSpPr>
        <p:spPr/>
        <p:txBody>
          <a:bodyPr/>
          <a:p>
            <a:fld id="{75E92940-2AD9-42E0-AD85-BED05CDFEC61}" type="datetime1">
              <a:rPr lang="en-US"/>
              <a:t>07/29/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B182A97-1185-4CF1-AEFF-846C6B2515C1}" type="slidenum">
              <a:t>5</a:t>
            </a:fld>
          </a:p>
        </p:txBody>
      </p:sp>
      <p:sp>
        <p:nvSpPr>
          <p:cNvPr id="5" name="PlaceHolder 4"/>
          <p:cNvSpPr>
            <a:spLocks noGrp="1"/>
          </p:cNvSpPr>
          <p:nvPr>
            <p:ph type="dt" idx="1"/>
          </p:nvPr>
        </p:nvSpPr>
        <p:spPr/>
        <p:txBody>
          <a:bodyPr/>
          <a:p>
            <a:fld id="{A60633C2-316C-4B9B-8FDA-1DFBCD5D9D32}" type="datetime1">
              <a:rPr lang="en-US"/>
              <a:t>07/29/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9B5ED25-C03F-4E44-B0E0-C4DFB080FCF9}" type="slidenum">
              <a:t>6</a:t>
            </a:fld>
          </a:p>
        </p:txBody>
      </p:sp>
      <p:sp>
        <p:nvSpPr>
          <p:cNvPr id="5" name="PlaceHolder 4"/>
          <p:cNvSpPr>
            <a:spLocks noGrp="1"/>
          </p:cNvSpPr>
          <p:nvPr>
            <p:ph type="dt" idx="1"/>
          </p:nvPr>
        </p:nvSpPr>
        <p:spPr/>
        <p:txBody>
          <a:bodyPr/>
          <a:p>
            <a:fld id="{09401E88-BA77-4689-9C5B-D5B36673FE45}" type="datetime1">
              <a:rPr lang="en-US"/>
              <a:t>07/29/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4A17456-F53C-4D18-B1AD-0CF50B172794}" type="slidenum">
              <a:t>7</a:t>
            </a:fld>
          </a:p>
        </p:txBody>
      </p:sp>
      <p:sp>
        <p:nvSpPr>
          <p:cNvPr id="5" name="PlaceHolder 4"/>
          <p:cNvSpPr>
            <a:spLocks noGrp="1"/>
          </p:cNvSpPr>
          <p:nvPr>
            <p:ph type="dt" idx="1"/>
          </p:nvPr>
        </p:nvSpPr>
        <p:spPr/>
        <p:txBody>
          <a:bodyPr/>
          <a:p>
            <a:fld id="{AF7D1F58-DAD7-41E3-A582-28471A01F005}" type="datetime1">
              <a:rPr lang="en-US"/>
              <a:t>07/29/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E3527A0-8815-4AEE-ABEB-AE4CCB4B2AF6}" type="slidenum">
              <a:t>8</a:t>
            </a:fld>
          </a:p>
        </p:txBody>
      </p:sp>
      <p:sp>
        <p:nvSpPr>
          <p:cNvPr id="5" name="PlaceHolder 4"/>
          <p:cNvSpPr>
            <a:spLocks noGrp="1"/>
          </p:cNvSpPr>
          <p:nvPr>
            <p:ph type="dt" idx="1"/>
          </p:nvPr>
        </p:nvSpPr>
        <p:spPr/>
        <p:txBody>
          <a:bodyPr/>
          <a:p>
            <a:fld id="{2C825F75-39DD-4756-B403-F63CD1C10954}" type="datetime1">
              <a:rPr lang="en-US"/>
              <a:t>07/29/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1E05532-ED9D-470A-80A9-BD40D8ADE4C5}" type="slidenum">
              <a:t>9</a:t>
            </a:fld>
          </a:p>
        </p:txBody>
      </p:sp>
      <p:sp>
        <p:nvSpPr>
          <p:cNvPr id="5" name="PlaceHolder 4"/>
          <p:cNvSpPr>
            <a:spLocks noGrp="1"/>
          </p:cNvSpPr>
          <p:nvPr>
            <p:ph type="dt" idx="1"/>
          </p:nvPr>
        </p:nvSpPr>
        <p:spPr/>
        <p:txBody>
          <a:bodyPr/>
          <a:p>
            <a:fld id="{C5072876-068A-43D7-9B29-B3D247D6E220}" type="datetime1">
              <a:rPr lang="en-US"/>
              <a:t>07/29/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